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A47-7292-4423-97AC-8CA8DC1F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A21-A053-4E90-BCB2-D500B8C0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8DC-4B2E-4790-9396-004CD4E6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730-4364-476F-91E4-96FAD4E2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CBA-7F3A-4696-BD60-5144CC8F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2BF-8001-4C7E-9B4B-E5740F52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ED7-61A9-4373-92BD-6BAB5B4B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17F-743D-469B-91C6-D594DBDD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DC4-1EBA-4805-A35A-B89C1DC4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3B6-343A-4225-9CE3-475FAA36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EC5-2BEF-45F0-AE2D-45EE18B1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B95-3457-4BBC-A506-B41668F3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710F-DA08-49E8-AE67-1B5D0642DF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8760" y="207180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уховно - нравственное воспитание дошкольников через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атрализованную деяте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223640" y="357120"/>
            <a:ext cx="51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ДОУ Баталинский детский с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143680" y="557208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 Еценкова С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214200" y="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а предметно-развивающая среда, которой оборудована театральная зона, где размещены: различные виды театров, реквизиты для разыгрывания сценок и спектаклей, набор кукол, ширма для кукольного театра, элементы костюмов, маски, шумелки, мини – музей «Русская изб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2" descr="IMG-20220224-WA0058.jpg"/>
          <p:cNvPicPr/>
          <p:nvPr/>
        </p:nvPicPr>
        <p:blipFill>
          <a:blip r:embed="rId1"/>
          <a:stretch/>
        </p:blipFill>
        <p:spPr>
          <a:xfrm>
            <a:off x="142920" y="1857240"/>
            <a:ext cx="3571920" cy="5000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IMG-20220224-WA0064.jpg"/>
          <p:cNvPicPr/>
          <p:nvPr/>
        </p:nvPicPr>
        <p:blipFill>
          <a:blip r:embed="rId2"/>
          <a:srcRect l="2344" t="7969" r="7031" b="6566"/>
          <a:stretch/>
        </p:blipFill>
        <p:spPr>
          <a:xfrm>
            <a:off x="4000680" y="1857240"/>
            <a:ext cx="492912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IMG-20220224-WA0062.jpg"/>
          <p:cNvPicPr/>
          <p:nvPr/>
        </p:nvPicPr>
        <p:blipFill>
          <a:blip r:embed="rId3"/>
          <a:stretch/>
        </p:blipFill>
        <p:spPr>
          <a:xfrm>
            <a:off x="4000680" y="4227480"/>
            <a:ext cx="49291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14200" y="71424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детей появилась уникальная возможность на фоне положительных эмоций управлять своим повед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ли активны, коммуникабельны в общении со сверстниками, со взрослыми в различных ситуациях об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лись согласовывать роли, договариваться о последовательности совместных действий, налаживать и регулировать контакты в совместной театральной иг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лись перевоплощаться в роли, используя выразительные средства (интонации, мимику, движение, применяя атрибуты, реквиз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ют пересказывать и сочинять небольшие сказки, рассказы; отвечать на вопросы по содержанию, драматизиро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лся уровень речевого развития и речевого этикета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сился эмоциональный контакт с семьями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214800" y="1429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162520" y="1857240"/>
            <a:ext cx="44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85880" y="714240"/>
            <a:ext cx="771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ь и воспитать в душе каждого ребенка духовное начало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ь творческие способности, психологическое раскрепощение детей посредством театрализова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428760"/>
            <a:ext cx="735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ь детей оценивать свои поступки и поступки товарищей, сравнивая их с поступками персонаж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ь согласовывать свои действия с действиями партнера (слушая, не перебивая: говорить, обращаясь к партнер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ь детей действиям с воображаемыми предме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ь импровизировать игры-драматизации на тему знакомых сказок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сть и коммуникативность в отношениях со сверстн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сферу чувств, соучастия, сопереж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85880" y="42876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воей работе с детьми я использую следующие виды деятельности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IMG-20220224-WA0050.jpg"/>
          <p:cNvPicPr/>
          <p:nvPr/>
        </p:nvPicPr>
        <p:blipFill>
          <a:blip r:embed="rId1"/>
          <a:stretch/>
        </p:blipFill>
        <p:spPr>
          <a:xfrm>
            <a:off x="214200" y="3000240"/>
            <a:ext cx="4071960" cy="3714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IMG-20220224-WA0071.jpg"/>
          <p:cNvPicPr/>
          <p:nvPr/>
        </p:nvPicPr>
        <p:blipFill>
          <a:blip r:embed="rId2"/>
          <a:stretch/>
        </p:blipFill>
        <p:spPr>
          <a:xfrm>
            <a:off x="4429080" y="3000240"/>
            <a:ext cx="4572000" cy="37292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857240" y="228276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5786280" y="2212920"/>
            <a:ext cx="24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-заба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IMG_20220224_155237.jpg"/>
          <p:cNvPicPr/>
          <p:nvPr/>
        </p:nvPicPr>
        <p:blipFill>
          <a:blip r:embed="rId1"/>
          <a:stretch/>
        </p:blipFill>
        <p:spPr>
          <a:xfrm>
            <a:off x="0" y="1143000"/>
            <a:ext cx="3000240" cy="41432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IMG_20220224_155718.jpg"/>
          <p:cNvPicPr/>
          <p:nvPr/>
        </p:nvPicPr>
        <p:blipFill>
          <a:blip r:embed="rId2"/>
          <a:stretch/>
        </p:blipFill>
        <p:spPr>
          <a:xfrm>
            <a:off x="5143680" y="785880"/>
            <a:ext cx="373824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IMG_20220224_160906.jpg"/>
          <p:cNvPicPr/>
          <p:nvPr/>
        </p:nvPicPr>
        <p:blipFill>
          <a:blip r:embed="rId3"/>
          <a:stretch/>
        </p:blipFill>
        <p:spPr>
          <a:xfrm>
            <a:off x="3143160" y="3143160"/>
            <a:ext cx="3733920" cy="37148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214200"/>
            <a:ext cx="49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кольный теа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357880" y="142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071880" y="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-инсценир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3071880" y="32148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-перевопло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2.jpg"/>
          <p:cNvPicPr/>
          <p:nvPr/>
        </p:nvPicPr>
        <p:blipFill>
          <a:blip r:embed="rId1"/>
          <a:stretch/>
        </p:blipFill>
        <p:spPr>
          <a:xfrm>
            <a:off x="285840" y="428760"/>
            <a:ext cx="3857400" cy="2714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5.jpg"/>
          <p:cNvPicPr/>
          <p:nvPr/>
        </p:nvPicPr>
        <p:blipFill>
          <a:blip r:embed="rId2"/>
          <a:stretch/>
        </p:blipFill>
        <p:spPr>
          <a:xfrm>
            <a:off x="4786200" y="428760"/>
            <a:ext cx="4143600" cy="2786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IMG-20220224-WA0025.jpg"/>
          <p:cNvPicPr/>
          <p:nvPr/>
        </p:nvPicPr>
        <p:blipFill>
          <a:blip r:embed="rId3"/>
          <a:stretch/>
        </p:blipFill>
        <p:spPr>
          <a:xfrm>
            <a:off x="142920" y="3714840"/>
            <a:ext cx="3990960" cy="3143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IMG-20220224-WA0020.jpg"/>
          <p:cNvPicPr/>
          <p:nvPr/>
        </p:nvPicPr>
        <p:blipFill>
          <a:blip r:embed="rId4"/>
          <a:stretch/>
        </p:blipFill>
        <p:spPr>
          <a:xfrm>
            <a:off x="4857840" y="3714840"/>
            <a:ext cx="4091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214280" y="214308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1143000" y="0"/>
            <a:ext cx="33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у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3_maslenica_page-0001.jpg"/>
          <p:cNvPicPr/>
          <p:nvPr/>
        </p:nvPicPr>
        <p:blipFill>
          <a:blip r:embed="rId1"/>
          <a:srcRect l="0" t="16363" r="0" b="0"/>
          <a:stretch/>
        </p:blipFill>
        <p:spPr>
          <a:xfrm>
            <a:off x="0" y="500040"/>
            <a:ext cx="4929120" cy="3286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IMG-20220224-WA0001.jpg"/>
          <p:cNvPicPr/>
          <p:nvPr/>
        </p:nvPicPr>
        <p:blipFill>
          <a:blip r:embed="rId2"/>
          <a:stretch/>
        </p:blipFill>
        <p:spPr>
          <a:xfrm>
            <a:off x="4429080" y="500040"/>
            <a:ext cx="4714920" cy="39290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IMG-20220224-WA0077.jpg"/>
          <p:cNvPicPr/>
          <p:nvPr/>
        </p:nvPicPr>
        <p:blipFill>
          <a:blip r:embed="rId3"/>
          <a:stretch/>
        </p:blipFill>
        <p:spPr>
          <a:xfrm>
            <a:off x="4643280" y="3357720"/>
            <a:ext cx="4000680" cy="3500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2_a_nu-ka_devochki_page-0001.jpg"/>
          <p:cNvPicPr/>
          <p:nvPr/>
        </p:nvPicPr>
        <p:blipFill>
          <a:blip r:embed="rId4"/>
          <a:srcRect l="17143" t="14585" r="0" b="0"/>
          <a:stretch/>
        </p:blipFill>
        <p:spPr>
          <a:xfrm>
            <a:off x="0" y="3357720"/>
            <a:ext cx="44290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4 (1).jpg"/>
          <p:cNvPicPr/>
          <p:nvPr/>
        </p:nvPicPr>
        <p:blipFill>
          <a:blip r:embed="rId1"/>
          <a:stretch/>
        </p:blipFill>
        <p:spPr>
          <a:xfrm>
            <a:off x="142920" y="214200"/>
            <a:ext cx="4500360" cy="3571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4.jpg"/>
          <p:cNvPicPr/>
          <p:nvPr/>
        </p:nvPicPr>
        <p:blipFill>
          <a:blip r:embed="rId2"/>
          <a:stretch/>
        </p:blipFill>
        <p:spPr>
          <a:xfrm>
            <a:off x="4143240" y="3214800"/>
            <a:ext cx="4857840" cy="3643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5143680" y="500040"/>
            <a:ext cx="38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дим в теат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ещаем библиоте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2286000" y="357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с родител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1028880" y="101592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уль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000080" y="1428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пки передвиж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1000080" y="18572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кл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8" descr="page_00004.jpg"/>
          <p:cNvPicPr/>
          <p:nvPr/>
        </p:nvPicPr>
        <p:blipFill>
          <a:blip r:embed="rId1"/>
          <a:stretch/>
        </p:blipFill>
        <p:spPr>
          <a:xfrm>
            <a:off x="4500720" y="785880"/>
            <a:ext cx="4452840" cy="3214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page_00005.jpg"/>
          <p:cNvPicPr/>
          <p:nvPr/>
        </p:nvPicPr>
        <p:blipFill>
          <a:blip r:embed="rId2"/>
          <a:stretch/>
        </p:blipFill>
        <p:spPr>
          <a:xfrm>
            <a:off x="142920" y="3071880"/>
            <a:ext cx="4786200" cy="3786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5517360" y="492912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ые празд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24T19:55:38Z</dcterms:created>
  <dc:creator>СВЕТЛАНА</dc:creator>
  <dc:description/>
  <dc:language>en-US</dc:language>
  <cp:lastModifiedBy>СВЕТЛАНА</cp:lastModifiedBy>
  <dcterms:modified xsi:type="dcterms:W3CDTF">2022-02-24T21:30:25Z</dcterms:modified>
  <cp:revision>10</cp:revision>
  <dc:subject/>
  <dc:title>Слайд 1</dc:title>
</cp:coreProperties>
</file>